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0FD0-8764-482D-8015-763826F95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0378-5A0C-4263-A1C5-AC8AF0C95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7C77-BBE7-469C-A866-0530C4546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BC0D-0351-45F0-A757-0A548B650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2E9F-A8AF-40BA-B623-52182993C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BC58-54A1-4337-A84E-B94588A7F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0512-BC5E-4CE1-95B9-911441E5A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5117-90FD-4F32-B65F-2334B92AD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73E2-89E3-42ED-B29F-1C59C5F5C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F9BC-05E7-4593-AFF1-96C72616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E04E-C916-4F54-8EBA-00CAFB4B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0EA1-2CDD-4DDB-87E6-9951904F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1BFE7-2502-4A46-AF87-8A06C8F21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 22.40 potrka na vrata ženska s 6-letnim jokavim otrokom in ga na rokah prinese v ambulanto, rekoč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 včeraj zjutraj šepa, spodbujali smo ga, naj hodi, a ni bilo nič bolje. Danes pa sploh noče več stopiti na desno nogo, jo vleče za sabo in toži za bolečinami pri vsakem premiku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i pregledu ugotovi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nspekcija kolka in kolena brez poseb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oleno in gleženj prosto gibljiva, neboleč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esni kolk fleksija 2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- 9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Bolečina: desne dimlje in steg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bljivost 2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- 5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fleksije (kontraktura), abdukcija 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- 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, zun. rot. 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- 1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boleč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avidezna skrajšanost desne sp. ekst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evrološki status b.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kšna je naša delovna diagnoz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eptični artritis kol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ehodni sinovitis kol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kutno poslabšanje displazije kol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Zdrs glavice kol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atero stanje je treba zdraviti takoj (23h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eptični artritis kol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ehodni sinovitis kol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kutno poslabšanje displazije kol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Zdrs glavice kol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j je nujen naslednji korak (ob 23h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akoj začeti zdravljenje z antibiotik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Lab. preiskave + UZ kol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Čimprejšnje razgibavanje, lab. preiskave in UZ kolka jut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Rtg medenice s kolko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693396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do bo opravil UZ kolk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isti, ki je usposobljen za U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ma aseptične pogoje za izvedbo punkcije (če bo indicira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Bo poslal vzorec na mikrobiološki preg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Bo v primeru gnojnega punktata znal ukrepati napre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Arial"/>
              </a:rPr>
              <a:t>NE ANTIBIOTIKA, DOKLER NI KUŽNI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Laboratorijske preiskave urgent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 komu bi napotili takšnega pacient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evmatolog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nfektolog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nternistična prva pomo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rtop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OZ V BOLNIŠN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01028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. preiskav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P &lt;5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ukociti 8,0 z normalno D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R 5 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Z: zmerno velik izliv v desnem kol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14400" y="596880"/>
            <a:ext cx="7391520" cy="56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419200" y="0"/>
            <a:ext cx="5070600" cy="807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j pa zdaj (1h ponoči)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MRI kolka + punkcija v spl. anestezi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unkcija kolka v lok. anestezi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prejem v bolnišnico in opazo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Navodila o strogem mirovanju, Rp za Naprosyn sirup in dom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Zdravljenje prehodnega sinovitisa kol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očitek in strogo mirovanje vsaj 1 t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trok naj leži, brez vsakršne h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BREZ RAZGIBAV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aprosyn sirup (NS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avodila glede poslabšanja s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ontrolni pregled/UZ čez 1 t, eventuelni Rtg ob neizboljšanju čez 3 ted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Kaj je treba storiti z očitnim septičnim artritisom kolka (prizadet febrilen otrok, CRP 120, izliv v kolku) ob 1h zjutraj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akojšnja antibiotična terap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unkcija in nato antibiotična terap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unkcija, op. drenaža sklepa, nato a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RI, punkcija, op. drenaža sklepa, a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i otroku je treba ob septičnem artritisu vedno pomisliti na možnost osteomielitisa, zato je potreben MRI (da se izvede pravilna operativna terapij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Žile za prehrano kolčne glavice potekajo INTRAKAPSULARNO, zato zakasnitev zdravljenja pomeni veliko tveganje za aseptično nekrozo kolčne gla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HODNI SINOVITIS KOL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AKE-HOME-MESS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šepajoč neprizadet afebrilen 4-8 letnik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um na prehodni sinovitis kol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zključiti septični artritis, pri starejših otrocih z velikimi BMI pa tudi zdrs kolčne gla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5720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AKE-HOME-MESS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Večinoma mine brez posledic ob pravilni 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Lahko je to le začetek Perthesove bolez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Bistvena je klinična slika, SPANJE PONOČI, UZ in laboratorijske preisk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apake: odklonitev pacienta, zakasnitev septičnega artritisa, predpisovanje p.o. antibiotika “za vsak primer” (naj dobi i.v. ali pa nič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HODNI SINOVITIS KOL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27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Hvala, ker ste s preiskavami hitro izključili septični artritis in me poslali domov. Zdaj mi bodo starši končno pustili, da v postelji en teden igram Ninten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76520" y="2514600"/>
            <a:ext cx="5715000" cy="39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j storite s paciento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akoj ga NUJNO napotite v bolniš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zdate napotnico, jutri pregled v bolnišn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acienta pregledate in se nato odloč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zdate Rp za analgetik in ga naročite na pregled naslednji d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j je pomembno vprašati v anamnez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liko časa bolečine in kaj ga boli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KO JE SPAL PONOČ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ročina? Mrzlica? Viroze zadnji mese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rožilni dejavniki (poškodba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ntane bolečine ali pri obremenjevanj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ge bolezni, zdravila, alerg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ečkova mama odgovor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Bolečine so drugi dan, boli desno stegn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onoči se je 1x zbudil zaradi boleč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mel vročino do 3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C včeraj, zdaj 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e spomni se poškod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Bolečine pri premikanju ali stoje, leže 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edno ne jemlje zdravil, alergij ne nava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j je naš naslednji kora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oizkus punkcije kolka in kol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Klinični pregled spodnjih ekstremit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zdamo napotnico za laboratorijske preiskave vnetnih parametrov (jut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ečka takoj napotimo v bolnišn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linični pregled spodnjih ekstremit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nspekcija (meritve, primerjava z zdrav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alpacija (oteklina, izliv ali zadebelite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Znaki vnetja (rubor, tumor, dolor, calor, f.l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bseg gibljivosti (iztegnjeno = 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fleksij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evrološki status spodnje ekstremit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Boleče toč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i kolku smo še posebej pozorni n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Flektorna kontraktura (Thomasov te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bsolutna/navidezna/funkcionalna razlika v dolžini spodnjih ekstremit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Šepanje v kolku (bolečina, razlika, parez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V kolku si z inspekcijo in palpacijo ne moremo pomagati (debela plast miši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4496040" cy="3981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419720" y="685800"/>
            <a:ext cx="5219640" cy="2476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29200" y="4038480"/>
            <a:ext cx="380988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</cp:lastModifiedBy>
  <dcterms:modified xsi:type="dcterms:W3CDTF">2012-10-02T16:32:28Z</dcterms:modified>
  <cp:revision>1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